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1FEC656-CCE4-4EC3-BDEC-A6E8AC03DE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4F8232E-0B27-4889-964F-7CB9569F2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6AD5C91-ADE8-4914-A104-AFD9983252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45C1582-AA80-4DD8-A8C4-2A10C150E7C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D86549-E029-4E75-9DB5-30D10CF83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0CAC2-9FDF-415B-9468-64B231C4A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69E90-9652-45AA-9093-2260D3FD1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72E6A-BA2C-4A10-85CC-9A1BC28D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F7CFC-505A-4A92-B9AA-BBBB15073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DBB2EF-7C33-41F8-8E14-442D73B70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1D2B-523F-4D36-9876-A159896D0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55FEE8B-B093-426E-B2D5-AD49FE972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D733B-CCB1-4463-A150-990BD0CD3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B4C9B-B068-4867-B1B7-4EBD64A8B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38990-E7B7-40EA-B629-E149A66B4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7EF8A-49A7-408E-B129-C6485937B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39565-790B-48B1-A538-9CBF1C5BE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656A8CA-075B-47B1-9EB1-1A6105396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39B6DE6-D112-441F-8459-1C81F01ED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8348D90-08F9-4503-9638-425C77E4C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BE993DF-4DC5-4F4B-9FFE-997AE57A31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F651518-E939-438A-B8CC-A8E45B1200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EEF3F8A-E18B-4094-99CE-00E1CDD6C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9A1B356-E992-4FEF-A51C-48B9EE507D3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C257-9809-448B-A873-E255287E85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54A4-CAD8-4974-895D-31A2FA3AE8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cc.gatech.edu/~cooperb/odin/"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Visualizing Peer-to-Peer Networks</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term (Iteration 1) Design Review Presentation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eam SPE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verview of Requirements</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DIN visualization tool that we will develop / deliver will have the following supporting featur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lay network topology.</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e a running simulation of the network.</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 a specific peer within the network.</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analyze points of congestion.</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e of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Use Case</a:t>
            </a: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complete ODIN Simulatio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visualization too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ad log file.</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 topology displayed and modified over time.</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r chooses new focus node or graph layou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esign Alternatives</a:t>
            </a:r>
            <a:endParaRPr b="0" lang="en-US" sz="4400" spc="-1" strike="noStrike">
              <a:solidFill>
                <a:srgbClr val="dfdef6"/>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considered two architectur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vent Driven Architecture</a:t>
            </a:r>
            <a:endParaRPr b="0" lang="en-US" sz="2800" spc="-1" strike="noStrike">
              <a:solidFill>
                <a:srgbClr val="ffffff"/>
              </a:solidFill>
              <a:latin typeface="Arial"/>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hich events from ODIN are fed automatically into the Visualization GUI via network connections.</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ipe and Filter Architecture</a:t>
            </a:r>
            <a:endParaRPr b="0" lang="en-US" sz="2800" spc="-1" strike="noStrike">
              <a:solidFill>
                <a:srgbClr val="ffffff"/>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hich the flow of logging data, from the simulation, could be converted into a input form that would be graphically display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rchitecture Rationale</a:t>
            </a: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decided not to chose the Event Driven Architecture because of network traffic overhea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ipe and Filter Architecture works better because of the natural flow of logging data from the simulation. The log data can then be visually displayed after the simulation has finish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rchitecture Rationale (cont.)</a:t>
            </a:r>
            <a:endParaRPr b="0" lang="en-US" sz="4400" spc="-1" strike="noStrike">
              <a:solidFill>
                <a:srgbClr val="dfdef6"/>
              </a:solidFill>
              <a:latin typeface="Arial"/>
            </a:endParaRPr>
          </a:p>
        </p:txBody>
      </p:sp>
      <p:pic>
        <p:nvPicPr>
          <p:cNvPr id="544" name="" descr=""/>
          <p:cNvPicPr/>
          <p:nvPr/>
        </p:nvPicPr>
        <p:blipFill>
          <a:blip r:embed="rId1"/>
          <a:stretch/>
        </p:blipFill>
        <p:spPr>
          <a:xfrm>
            <a:off x="1143000" y="1905120"/>
            <a:ext cx="6867360" cy="390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tatus Report</a:t>
            </a:r>
            <a:endParaRPr b="0" lang="en-US" sz="44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roject is running smoothly; on track.</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major Issues have occurred so fa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 “Show Stopper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ajor milestones have been met for first ite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how Stopper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No access to CoC clusters first couple of weeks of semest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on: Confronted CNS in regard to this proble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 ODIN research delayed for 2 weeks, work shifted to desig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sources (Person-Hours)</a:t>
            </a:r>
            <a:endParaRPr b="0" lang="en-US" sz="4400" spc="-1" strike="noStrike">
              <a:solidFill>
                <a:srgbClr val="dfdef6"/>
              </a:solidFill>
              <a:latin typeface="Arial"/>
            </a:endParaRPr>
          </a:p>
        </p:txBody>
      </p:sp>
      <p:graphicFrame>
        <p:nvGraphicFramePr>
          <p:cNvPr id="550" name=""/>
          <p:cNvGraphicFramePr/>
          <p:nvPr/>
        </p:nvGraphicFramePr>
        <p:xfrm>
          <a:off x="304920" y="1447920"/>
          <a:ext cx="8381880" cy="4883040"/>
        </p:xfrm>
        <a:graphic>
          <a:graphicData uri="http://schemas.openxmlformats.org/presentationml/2006/ole">
            <p:oleObj progId="Excel.Sheet.12" r:id="rId1" spid="">
              <p:embed/>
              <p:pic>
                <p:nvPicPr>
                  <p:cNvPr id="551" name="" descr=""/>
                  <p:cNvPicPr/>
                  <p:nvPr/>
                </p:nvPicPr>
                <p:blipFill>
                  <a:blip r:embed="rId2"/>
                  <a:stretch/>
                </p:blipFill>
                <p:spPr>
                  <a:xfrm>
                    <a:off x="304920" y="1447920"/>
                    <a:ext cx="838188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eatures and Artifacts</a:t>
            </a:r>
            <a:endParaRPr b="0" lang="en-US" sz="4400" spc="-1" strike="noStrike">
              <a:solidFill>
                <a:srgbClr val="dfdef6"/>
              </a:solidFill>
              <a:latin typeface="Arial"/>
            </a:endParaRPr>
          </a:p>
        </p:txBody>
      </p:sp>
      <p:graphicFrame>
        <p:nvGraphicFramePr>
          <p:cNvPr id="553" name=""/>
          <p:cNvGraphicFramePr/>
          <p:nvPr/>
        </p:nvGraphicFramePr>
        <p:xfrm>
          <a:off x="228600" y="1143000"/>
          <a:ext cx="8686800" cy="5029200"/>
        </p:xfrm>
        <a:graphic>
          <a:graphicData uri="http://schemas.openxmlformats.org/presentationml/2006/ole">
            <p:oleObj progId="Excel.Sheet.12" r:id="rId1" spid="">
              <p:embed/>
              <p:pic>
                <p:nvPicPr>
                  <p:cNvPr id="554" name="" descr=""/>
                  <p:cNvPicPr/>
                  <p:nvPr/>
                </p:nvPicPr>
                <p:blipFill>
                  <a:blip r:embed="rId2"/>
                  <a:stretch/>
                </p:blipFill>
                <p:spPr>
                  <a:xfrm>
                    <a:off x="228600" y="1143000"/>
                    <a:ext cx="86868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Iteration 1 Demo</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eam Members</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 Sidi</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oject Manag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 Phillips</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evelop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immy Espana</a:t>
            </a:r>
            <a:r>
              <a:rPr b="0" lang="en-US" sz="3200" spc="-1" strike="noStrike">
                <a:solidFill>
                  <a:srgbClr val="ffffff"/>
                </a:solidFill>
                <a:latin typeface="Arial"/>
              </a:rPr>
              <a:t>	</a:t>
            </a:r>
            <a:r>
              <a:rPr b="0" lang="en-US" sz="3200" spc="-1" strike="noStrike">
                <a:solidFill>
                  <a:srgbClr val="ffffff"/>
                </a:solidFill>
                <a:latin typeface="Arial"/>
              </a:rPr>
              <a:t>(Document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Withrow</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evelo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ture Iteration Plans</a:t>
            </a:r>
            <a:endParaRPr b="0" lang="en-US" sz="4400" spc="-1" strike="noStrike">
              <a:solidFill>
                <a:srgbClr val="dfdef6"/>
              </a:solidFill>
              <a:latin typeface="Arial"/>
            </a:endParaRPr>
          </a:p>
        </p:txBody>
      </p:sp>
      <p:sp>
        <p:nvSpPr>
          <p:cNvPr id="55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k activit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ing areas of congestion.</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advanced radial graphing techniques (constructing better BFS tree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graph layou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End</a:t>
            </a:r>
            <a:endParaRPr b="0" lang="en-US" sz="4400" spc="-1" strike="noStrike">
              <a:solidFill>
                <a:srgbClr val="dfdef6"/>
              </a:solidFill>
              <a:latin typeface="Arial"/>
            </a:endParaRPr>
          </a:p>
        </p:txBody>
      </p:sp>
      <p:sp>
        <p:nvSpPr>
          <p:cNvPr id="56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Questions or Comment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teration 1 Backlog</a:t>
            </a:r>
            <a:endParaRPr b="0" lang="en-US" sz="4400" spc="-1" strike="noStrike">
              <a:solidFill>
                <a:srgbClr val="dfdef6"/>
              </a:solidFill>
              <a:latin typeface="Arial"/>
            </a:endParaRPr>
          </a:p>
        </p:txBody>
      </p:sp>
      <p:graphicFrame>
        <p:nvGraphicFramePr>
          <p:cNvPr id="562" name=""/>
          <p:cNvGraphicFramePr/>
          <p:nvPr/>
        </p:nvGraphicFramePr>
        <p:xfrm>
          <a:off x="457200" y="1905120"/>
          <a:ext cx="8229600" cy="4114800"/>
        </p:xfrm>
        <a:graphic>
          <a:graphicData uri="http://schemas.openxmlformats.org/drawingml/2006/table">
            <a:tbl>
              <a:tblPr/>
              <a:tblGrid>
                <a:gridCol w="2266920"/>
                <a:gridCol w="1992240"/>
                <a:gridCol w="768600"/>
                <a:gridCol w="806400"/>
                <a:gridCol w="807840"/>
                <a:gridCol w="781200"/>
                <a:gridCol w="806400"/>
              </a:tblGrid>
              <a:tr h="4665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ays Left In Iter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nd Iter. 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ho</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scrip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23/20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30/20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6/20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2/13/200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tal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duct Vis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duct Backlo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teration 1 Backlo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tus Report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nderstand/study OD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ric, Bill, 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itial Graph Layout Explor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 Chris, Bill, Eri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e Cas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 Chris, Bill, Eri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igh-Level Design Do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Eric, Chris, Bil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ctual ODIN-driven topology display, any layou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 Chris, Bill, Eri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idterm Present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Total Estimated Hours Remainin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6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12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8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4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ject Backlog</a:t>
            </a:r>
            <a:endParaRPr b="0" lang="en-US" sz="4400" spc="-1" strike="noStrike">
              <a:solidFill>
                <a:srgbClr val="dfdef6"/>
              </a:solidFill>
              <a:latin typeface="Arial"/>
            </a:endParaRPr>
          </a:p>
        </p:txBody>
      </p:sp>
      <p:graphicFrame>
        <p:nvGraphicFramePr>
          <p:cNvPr id="564" name=""/>
          <p:cNvGraphicFramePr/>
          <p:nvPr/>
        </p:nvGraphicFramePr>
        <p:xfrm>
          <a:off x="457200" y="1600200"/>
          <a:ext cx="8229240" cy="4533480"/>
        </p:xfrm>
        <a:graphic>
          <a:graphicData uri="http://schemas.openxmlformats.org/drawingml/2006/table">
            <a:tbl>
              <a:tblPr/>
              <a:tblGrid>
                <a:gridCol w="1380240"/>
                <a:gridCol w="799200"/>
                <a:gridCol w="3524400"/>
                <a:gridCol w="1126440"/>
                <a:gridCol w="1398960"/>
              </a:tblGrid>
              <a:tr h="5148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iorit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Item#</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scrip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stimat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Estimated B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duct Vis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Very Hig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oduct Backlo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teration 1 Backlog</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tus Report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immy</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9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nderstand/study ODI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Initial Graph Layout Explor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5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ig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e Cases (Iteration 1 subse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High-Level Design Do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9</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ctual ODIN-driven topology display, any layou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idterm Presentation</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6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Medium</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eflect activity levels on link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n intuitive layou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hri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y are we called Team SPEW ?</a:t>
            </a:r>
            <a:endParaRPr b="0" lang="en-US" sz="40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
            </a:r>
            <a:r>
              <a:rPr b="0" lang="en-US" sz="2800" spc="-1" strike="noStrike">
                <a:solidFill>
                  <a:srgbClr val="ffffff"/>
                </a:solidFill>
                <a:latin typeface="Arial"/>
              </a:rPr>
              <a:t>idi</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P</a:t>
            </a:r>
            <a:r>
              <a:rPr b="0" lang="en-US" sz="3200" spc="-1" strike="noStrike">
                <a:solidFill>
                  <a:srgbClr val="ffffff"/>
                </a:solidFill>
                <a:latin typeface="Arial"/>
              </a:rPr>
              <a:t>hillip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E</a:t>
            </a:r>
            <a:r>
              <a:rPr b="0" lang="en-US" sz="3200" spc="-1" strike="noStrike">
                <a:solidFill>
                  <a:srgbClr val="ffffff"/>
                </a:solidFill>
                <a:latin typeface="Arial"/>
              </a:rPr>
              <a:t>spa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W</a:t>
            </a:r>
            <a:r>
              <a:rPr b="0" lang="en-US" sz="3200" spc="-1" strike="noStrike">
                <a:solidFill>
                  <a:srgbClr val="ffffff"/>
                </a:solidFill>
                <a:latin typeface="Arial"/>
              </a:rPr>
              <a:t>ithr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ustomer &amp; Faculty Advisor</a:t>
            </a:r>
            <a:endParaRPr b="0" lang="en-US" sz="44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tom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r. Brian Cooper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ulty Adviso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Dr. Brian Coop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22" name="" descr=""/>
          <p:cNvPicPr/>
          <p:nvPr/>
        </p:nvPicPr>
        <p:blipFill>
          <a:blip r:embed="rId3"/>
          <a:stretch/>
        </p:blipFill>
        <p:spPr>
          <a:xfrm>
            <a:off x="5257800" y="3429000"/>
            <a:ext cx="2571840" cy="291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Goal</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visualization component to a peer-to-peer toolkit called ODI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IN = Overlay-Dynamic Information Networks</a:t>
            </a:r>
            <a:endParaRPr b="0" lang="en-US" sz="2800" spc="-1" strike="noStrike">
              <a:solidFill>
                <a:srgbClr val="ffffff"/>
              </a:solidFill>
              <a:latin typeface="Arial"/>
            </a:endParaRPr>
          </a:p>
          <a:p>
            <a:pPr lvl="2" marL="1143000" indent="-228600">
              <a:spcBef>
                <a:spcPts val="499"/>
              </a:spcBef>
              <a:buSzPct val="12343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eer-to-peer toolkit (</a:t>
            </a:r>
            <a:r>
              <a:rPr b="0" lang="en-US" sz="2000" spc="-1" strike="noStrike" u="sng">
                <a:solidFill>
                  <a:srgbClr val="9999ff"/>
                </a:solidFill>
                <a:uFillTx/>
                <a:latin typeface="Arial"/>
                <a:hlinkClick r:id="rId4"/>
              </a:rPr>
              <a:t>www.cc.gatech.edu/~cooperb/odin/</a:t>
            </a:r>
            <a:r>
              <a:rPr b="0" lang="en-US" sz="2000" spc="-1" strike="noStrike" u="sng">
                <a:solidFill>
                  <a:srgbClr val="ffffff"/>
                </a:solidFill>
                <a:uFillTx/>
                <a:latin typeface="Arial"/>
              </a:rPr>
              <a:t>)</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 Term Goal - Extend ODIN into a debugging toolkit that can be used to analyze, and possible troubleshoot Peer-to-Peer Net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efore</a:t>
            </a:r>
            <a:endParaRPr b="0" lang="en-US" sz="4400" spc="-1" strike="noStrike">
              <a:solidFill>
                <a:srgbClr val="dfdef6"/>
              </a:solidFill>
              <a:latin typeface="Arial"/>
            </a:endParaRPr>
          </a:p>
        </p:txBody>
      </p:sp>
      <p:pic>
        <p:nvPicPr>
          <p:cNvPr id="526" name="" descr=""/>
          <p:cNvPicPr/>
          <p:nvPr/>
        </p:nvPicPr>
        <p:blipFill>
          <a:blip r:embed="rId1"/>
          <a:stretch/>
        </p:blipFill>
        <p:spPr>
          <a:xfrm>
            <a:off x="457200" y="1600200"/>
            <a:ext cx="8229600" cy="4533840"/>
          </a:xfrm>
          <a:prstGeom prst="rect">
            <a:avLst/>
          </a:prstGeom>
          <a:ln w="0">
            <a:noFill/>
          </a:ln>
        </p:spPr>
      </p:pic>
      <p:pic>
        <p:nvPicPr>
          <p:cNvPr id="527" name="" descr=""/>
          <p:cNvPicPr/>
          <p:nvPr/>
        </p:nvPicPr>
        <p:blipFill>
          <a:blip r:embed="rId2"/>
          <a:stretch/>
        </p:blipFill>
        <p:spPr>
          <a:xfrm>
            <a:off x="1295280" y="1447920"/>
            <a:ext cx="640080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fter</a:t>
            </a:r>
            <a:endParaRPr b="0" lang="en-US" sz="4400" spc="-1" strike="noStrike">
              <a:solidFill>
                <a:srgbClr val="dfdef6"/>
              </a:solidFill>
              <a:latin typeface="Arial"/>
            </a:endParaRPr>
          </a:p>
        </p:txBody>
      </p:sp>
      <p:pic>
        <p:nvPicPr>
          <p:cNvPr id="529" name="" descr=""/>
          <p:cNvPicPr/>
          <p:nvPr/>
        </p:nvPicPr>
        <p:blipFill>
          <a:blip r:embed="rId1"/>
          <a:stretch/>
        </p:blipFill>
        <p:spPr>
          <a:xfrm>
            <a:off x="457200" y="1600200"/>
            <a:ext cx="8229600" cy="4533840"/>
          </a:xfrm>
          <a:prstGeom prst="rect">
            <a:avLst/>
          </a:prstGeom>
          <a:ln w="0">
            <a:noFill/>
          </a:ln>
        </p:spPr>
      </p:pic>
      <p:pic>
        <p:nvPicPr>
          <p:cNvPr id="530" name="" descr=""/>
          <p:cNvPicPr/>
          <p:nvPr/>
        </p:nvPicPr>
        <p:blipFill>
          <a:blip r:embed="rId2"/>
          <a:stretch/>
        </p:blipFill>
        <p:spPr>
          <a:xfrm>
            <a:off x="1295280" y="1447920"/>
            <a:ext cx="6400800" cy="49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ustomer Background</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to-peer networks are moving beyond music filesharing and becoming popular platforms for building a variety of distributed application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hough many P2P systems are being built, it is difficult to get a good understanding of how they are actually performing and compare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ustomer Background (cont.)</a:t>
            </a: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 like us to build a visualization tool that allows us to present a simulation of a peer-to-peer network.</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regions of the network are experiencing heavy or light traffic.</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regions of the network are generating heavy or light traffic.</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e graphically how an individual message gets routed through the network, hopefu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3:40:20Z</dcterms:created>
  <dc:creator>Jimmy Mauricio Espana</dc:creator>
  <dc:description/>
  <dc:language>en-US</dc:language>
  <cp:lastModifiedBy>Eric Withrow</cp:lastModifiedBy>
  <dcterms:modified xsi:type="dcterms:W3CDTF">2006-02-21T19:25:55Z</dcterms:modified>
  <cp:revision>75</cp:revision>
  <dc:subject/>
  <dc:title>Slide 1</dc:title>
</cp:coreProperties>
</file>